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E9800-A0DE-4850-AFE3-B5647A71C5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ECEE6-9B3F-4484-BAB1-F08D82BA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D8F1-C425-4D8A-AAA0-2870E5F6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3CF0A-64FD-441D-9CEF-FC7B1C969E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17D2-8883-47E4-912D-8EBD9E0C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4F79F-6D01-466B-BCC4-DCCC8789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699D-B71F-458B-AE52-1074F25B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1F63-BFE6-482E-BCA6-C5D298DE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D78E6-E6AC-4BB2-94ED-49DD37C5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085E-60FC-40B5-90B6-C4157BEE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10BF-12E6-406A-8D64-DA3E382C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1106-E289-4A5E-9CAB-85D7BE5A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325F-1707-4019-9681-F8835353ED1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7C3E-63B1-483C-B9B0-51DCA4896EC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九节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意识障碍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189D-3D37-4B2A-931E-5F7A949110E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昏迷：是最严重的意识障碍，按其程度不同又可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轻度昏迷：大部分意识丧失，无自主运动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声、光刺激无反应，对疼痛刺激尚可出现痛苦表情或肢体退缩等防御反应吞咽反射、角膜反射、瞳孔对光反射、眼球运动等可存在，血压、脉搏、呼吸无明显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中度昏迷：对周围事物及各种刺激均无反应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剧烈刺激可有防御反应。无眼球转动，角膜反射减弱，瞳孔对光反射迟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深度昏迷：意识完全丧失，全身肌肉松弛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任何刺激均无反应，深、浅反射均消失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血压、脉搏、呼吸常有改变，二便失禁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A657-B30D-4E0E-A55F-4F9B1A83AE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意识障碍发生的时间，发病前有无诱因、病程长短、意识障碍程度及其进展等，根据患者对刺激的反应，回答问题的准确性、肢体活动情况、痛觉试验、神经反射等可以判断有无意识障碍及程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有无低血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07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3435-EF20-4AA6-AB97-04A5678783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意识障碍相关的疾病史；有无癫痫等病史；有无类似发作史有无毒物或药物接触史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营养状况、意识状态、有无压疮等以及对患者生活质量的影响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如昏迷患者易并发肺部感染或尿路感染、口腔炎、结膜炎以及肢体肌肉挛缩畸形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6030-30D3-4087-B489-BBC497411A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2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急性意识障碍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2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丧失所致排尿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/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排便功能障碍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2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2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清理呼吸道无效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口腔黏膜受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3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脑出血有关；与肺性脑病、肝性脑病有关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4426560" y="52999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丧失自理能力及唾液分泌减少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7086-3097-4C8A-AC98-19BB2D6070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44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营养失调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900000" y="4005360"/>
            <a:ext cx="7230960" cy="791640"/>
            <a:chOff x="900000" y="4005360"/>
            <a:chExt cx="7230960" cy="791640"/>
          </a:xfrm>
        </p:grpSpPr>
        <p:sp>
          <p:nvSpPr>
            <p:cNvPr id="248" name="AutoShape 12"/>
            <p:cNvSpPr/>
            <p:nvPr/>
          </p:nvSpPr>
          <p:spPr>
            <a:xfrm>
              <a:off x="3113640" y="4005360"/>
              <a:ext cx="5017320" cy="72324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自主运动消失有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排便、排尿失禁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13"/>
            <p:cNvSpPr/>
            <p:nvPr/>
          </p:nvSpPr>
          <p:spPr>
            <a:xfrm>
              <a:off x="900000" y="4186080"/>
              <a:ext cx="2327400" cy="610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有皮肤完整性受损的危险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51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52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有感染的危险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有受伤害的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7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58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于机体需要量  与意识障碍不能正常进食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；与侵入性导尿装置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100760" y="52999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躁动不安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812F-D402-4326-AA52-16F0C3E102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7429-B9AD-48FB-A6FE-22AB42AE86A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2955-1AD3-458D-916A-ADCD19CAFC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意识障碍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意识障碍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58D1-D7B5-417C-86E0-D0157A27BF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2BBF-BF37-4C21-A891-8E13968FF2E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9FC5-C4BE-4CB6-A757-B8CEF07032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意识障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isturbance of consciousnes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人对周围环境及自身状态的识别和察觉能力出现障碍，对外界环境刺激缺乏反应的一种精神状态。意识障碍多由于高级神经中枢功能活动受损而引起，可表现为嗜睡、意识模糊、昏睡和谵妄，严重的意识障碍为昏迷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1C85-7B4D-46B6-A0D1-CE7C24A861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脑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B267-C37C-424C-9D5D-B5479A2216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8"/>
          <p:cNvSpPr/>
          <p:nvPr/>
        </p:nvSpPr>
        <p:spPr>
          <a:xfrm>
            <a:off x="1287360" y="2146320"/>
            <a:ext cx="6099120" cy="43578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如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血管疾病：如脑出血、高血压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位性病变：如脑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脑震荡、脑挫伤、颅骨骨折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癫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8951-D69F-4424-8204-F3E417E6AD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2848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B86C-18F1-495A-BFDC-B7ADB9BCC7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0"/>
          <p:cNvSpPr/>
          <p:nvPr/>
        </p:nvSpPr>
        <p:spPr>
          <a:xfrm>
            <a:off x="1258920" y="1071720"/>
            <a:ext cx="7599240" cy="5786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感染：如败血症、中毒性肺炎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血管疾病：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ams-Stok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分泌与代谢性疾病：如肝性脑病、尿毒症等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：安眠药、有机磷、乙醇、一氧化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物理性及缺氧性损害：如触电、溺水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、电解质平衡紊乱：如低钠血症、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D3DD-0489-4DA2-9147-B1A64B2ABD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A817-0C73-40F2-A93B-8079F62027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7800" y="163980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由意识内容和其“开关”系统组成。意识“开关”系统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激活大脑皮质并使之维持一定水平的兴奋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使机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处于觉醒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在此基础上产生意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脑皮质和皮质下网状结构功能完整时，意识活动是清醒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59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3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759800" y="5464080"/>
            <a:ext cx="874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1527-6B58-451B-86A1-DA4C5F48F1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15D6-8E95-49CD-B855-245722D644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8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2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55640" y="5229360"/>
            <a:ext cx="100008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2484360" y="2637000"/>
            <a:ext cx="2087640" cy="79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缺血、缺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411280" y="3716280"/>
            <a:ext cx="230364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供给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484360" y="4941720"/>
            <a:ext cx="223200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代谢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1476360" y="3068280"/>
            <a:ext cx="4316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859280" y="2852640"/>
            <a:ext cx="73080" cy="2808360"/>
          </a:xfrm>
          <a:custGeom>
            <a:avLst/>
            <a:gdLst>
              <a:gd name="textAreaLeft" fmla="*/ 0 w 73080"/>
              <a:gd name="textAreaRight" fmla="*/ 26280 w 730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507672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5580000" y="2421000"/>
            <a:ext cx="792360" cy="36734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6516720" y="422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8388360" y="2637000"/>
            <a:ext cx="576360" cy="2808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539640" y="3141720"/>
            <a:ext cx="720720" cy="1800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547640" y="4076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547640" y="4941720"/>
            <a:ext cx="50508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6948360" y="1052640"/>
            <a:ext cx="863640" cy="561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害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788508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F7DD-D180-42D1-98B4-9CBA9FEBBC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嗜睡：患者处于一种持续性的病理性睡眠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可被轻刺激唤醒，并能正确回答问题和做出各种反应，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但反应迟钝，当刺激去除后很快又入睡嗜睡是最轻的一种意识障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意识模糊：是较嗜睡为深的一种意识障碍。患者意识水平轻度降低，能保持简单的精神活动，但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对时间、地点、人物等定向能力发生障碍，思维和语言不连贯，可有错觉、幻觉、躁动不安、精神错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昏睡：是较严重的意识障碍。患者处于沉睡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难于唤醒，虽在强烈刺激下（如大声呼喊其姓名、摇动其身体、压迫眶上神经等），可被唤醒，但很快又入睡，醒时答话含糊或答非所问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谵妄：是一种以中枢神经系统兴奋性增高为主的急性脑功能失调。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表现为意识模糊，感觉错乱（幻觉、错觉等），定向力丧失、躁动不安、言语杂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等。主要见于急性感染高热期，中枢神经系统疾病，肝性脑病、急性酒精中毒、某些药物中毒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1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9:40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